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88188" cy="10223500"/>
</p:presentation>
</file>

<file path=ppt/commentAuthors.xml><?xml version="1.0" encoding="utf-8"?>
<p:cmAuthorLst xmlns:p="http://schemas.openxmlformats.org/presentationml/2006/main">
  <p:cmAuthor id="0" name="kenzo" initials="k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<Relationship Id="rId13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5-04-05T08:47:57.825000000" idx="1">
    <p:pos x="10" y="10"/>
    <p:text>DOUGHNUTS: Detector Of Under-Ground Hideous Neutrinos from Universe and from Terrestrial Sources 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48525-7412-4BD8-82F0-447BAB0B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380232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46831-73DA-42D4-BBF6-C2B18FE9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802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14360" y="3802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975ED-49C3-45E0-9C5B-92EAB08A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05760" y="165276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4840" y="165276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3802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05760" y="3802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4840" y="3802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2D1DE-6D22-4AC7-90E3-C543B570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CB30D-10EB-496B-A4A4-29FAD8BA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8B80E-4FF7-465E-9729-6A7FE6AF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A03F7-A91A-4112-9747-4ED0D54C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B9B5A-A7FC-4BDD-86FF-2C00CAE4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152280"/>
            <a:ext cx="759600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2D8A0-3FBA-4B2D-B981-BF95C970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3802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1D898-E318-431C-9022-9CAE92C5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14360" y="3802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6453D-5450-48C7-A257-4B28463F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0232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0499F-CFA6-4469-947F-2F8E320F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07460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41444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1753560" indent="-226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837720" y="6508440"/>
            <a:ext cx="7402680" cy="304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718040" y="6562800"/>
            <a:ext cx="1335240" cy="2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E2FF-55BD-4BAE-ADC0-B0B1F7E8FE86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 rot="16200000">
            <a:off x="-510480" y="5528160"/>
            <a:ext cx="2360520" cy="2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90720" y="1066680"/>
            <a:ext cx="7619760" cy="0"/>
          </a:xfrm>
          <a:prstGeom prst="line">
            <a:avLst/>
          </a:prstGeom>
          <a:ln w="127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5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7848720" cy="2736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verview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f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Hyper-Kamiokande R&amp;D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84000" y="3933720"/>
            <a:ext cx="4343400" cy="27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Kenzo NAKAMURA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KEK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pril 7-9, 2005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NNN05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ussois, Savoie, France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CC205-791C-4E3B-A2B4-2B8CC38894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Mton Water Cherenkov Detector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oncept of a Mton water Cherenkov detector dates back to 1992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. Koshiba: “DOUGHNUTS”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hys. Rep. 220 (1992) 229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oncept of Hyper-Kamiokande was first presented at NNN99 @ SUNY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 recent write-up: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K. N., Int. J. Mod. Phys. A18 (2003) 4053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6CA0A-3962-47CF-AC83-79FBBB2099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hat is Hyper-Kamiokande ?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05920" cy="5842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141300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Mton water Cherenkov detector at Kami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95AE2-D655-475F-9044-83F51861CB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hy this design has been chosen ?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3640" y="145728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Water depth &lt; 50 m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(If the present 20-inch PMT or similar one will be used.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Linear dimensions for light path &lt; 100 m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ptimization of M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FID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/M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TOTAL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Rock stabilit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SzPct val="13089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void sharp edges. Spherical shape is the best.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r solution: Tunnel-shaped cavit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ingle Cavity or Twin Cavities?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SzPct val="13089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Single Cavity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buSzPct val="11619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en-US" sz="1700" spc="-1" strike="noStrike" baseline="-25000">
                <a:solidFill>
                  <a:srgbClr val="0000ff"/>
                </a:solidFill>
                <a:latin typeface="Comic Sans MS"/>
              </a:rPr>
              <a:t>FID</a:t>
            </a: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/M</a:t>
            </a:r>
            <a:r>
              <a:rPr b="0" lang="en-US" sz="1700" spc="-1" strike="noStrike" baseline="-25000">
                <a:solidFill>
                  <a:srgbClr val="0000ff"/>
                </a:solidFill>
                <a:latin typeface="Comic Sans MS"/>
              </a:rPr>
              <a:t>TOTAL</a:t>
            </a:r>
            <a:r>
              <a:rPr b="0" lang="ja-JP" sz="1700" spc="-1" strike="noStrike" baseline="-25000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is better</a:t>
            </a:r>
            <a:endParaRPr b="0" lang="en-US" sz="17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buSzPct val="11619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Cost is lower</a:t>
            </a:r>
            <a:endParaRPr b="0" lang="en-US" sz="17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buSzPct val="11619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Larger area of stable rock mass needed. </a:t>
            </a:r>
            <a:endParaRPr b="0" lang="en-US" sz="17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SzPct val="13089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win Cavitie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buSzPct val="116190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Two detectors are independent. One detector is alive when the other is calibrated or maintained.</a:t>
            </a:r>
            <a:endParaRPr b="0" lang="en-US" sz="17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buSzPct val="116190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Both cavities should be excavated at the same time. But staging scenario is possible for the later phase of the detector construction.</a:t>
            </a:r>
            <a:endParaRPr b="0" lang="en-US" sz="17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r solution: Twin cavitie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4DA65-BB74-4916-84EF-78CE8177DC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ze of the detector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1447920"/>
            <a:ext cx="8308800" cy="5725080"/>
            <a:chOff x="380880" y="1447920"/>
            <a:chExt cx="8308800" cy="5725080"/>
          </a:xfrm>
        </p:grpSpPr>
        <p:sp>
          <p:nvSpPr>
            <p:cNvPr id="54" name=""/>
            <p:cNvSpPr/>
            <p:nvPr/>
          </p:nvSpPr>
          <p:spPr>
            <a:xfrm>
              <a:off x="2280960" y="3895920"/>
              <a:ext cx="6408720" cy="32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Fiducial volume: 39mφ×45m ×5 sections ×2 = 0.54 M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Total Inner detector volume: 43mφ×49m ×5 sections ×2 = 0.72 M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Total detector volume: 1 M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Total number of PMTs: 200,000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　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(if 2/m</a:t>
              </a: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HGSｺﾞｼｯｸE"/>
                  <a:ea typeface="HGSｺﾞｼｯｸE"/>
                </a:rPr>
                <a:t>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380880" y="1447920"/>
              <a:ext cx="8101080" cy="3447720"/>
              <a:chOff x="380880" y="1447920"/>
              <a:chExt cx="8101080" cy="3447720"/>
            </a:xfrm>
          </p:grpSpPr>
          <p:sp>
            <p:nvSpPr>
              <p:cNvPr id="56" name=""/>
              <p:cNvSpPr/>
              <p:nvPr/>
            </p:nvSpPr>
            <p:spPr>
              <a:xfrm>
                <a:off x="599760" y="1592280"/>
                <a:ext cx="935280" cy="201636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784840" y="1592280"/>
                <a:ext cx="934920" cy="201636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192480" y="1592280"/>
                <a:ext cx="934920" cy="201636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80880" y="1447920"/>
                <a:ext cx="1081080" cy="2305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85600" y="1447920"/>
                <a:ext cx="759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85600" y="3753000"/>
                <a:ext cx="759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973240" y="1447920"/>
                <a:ext cx="1081080" cy="2305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565600" y="1447920"/>
                <a:ext cx="1081080" cy="2305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901960" y="1592280"/>
                <a:ext cx="934920" cy="201636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494320" y="1592280"/>
                <a:ext cx="934920" cy="201636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74680" y="159228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74680" y="360864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767040" y="159228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767040" y="360864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359400" y="1592280"/>
                <a:ext cx="212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59400" y="3608640"/>
                <a:ext cx="212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flipV="1">
                <a:off x="1976040" y="3590640"/>
                <a:ext cx="360360" cy="505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flipV="1">
                <a:off x="1442520" y="3743280"/>
                <a:ext cx="863640" cy="115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"/>
          <p:cNvSpPr/>
          <p:nvPr/>
        </p:nvSpPr>
        <p:spPr>
          <a:xfrm>
            <a:off x="1143000" y="2286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omic Sans MS"/>
                <a:ea typeface="HGSｺﾞｼｯｸE"/>
              </a:rPr>
              <a:t>Fiducial / To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9FAC9-5E12-4C6D-907C-09D7737BAE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404280"/>
            <a:ext cx="7993080" cy="554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omparison of 3 Generations of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Kamioka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ucleon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c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xperiment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50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ja-JP" sz="2000" spc="-1" strike="noStrike">
                <a:solidFill>
                  <a:srgbClr val="0000ff"/>
                </a:solidFill>
                <a:latin typeface="Comic Sans MS"/>
              </a:rPr>
              <a:t>　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Kamiokande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uper-Kamiokande       Hyper-Kamiokande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Mass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　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3,000 t                    50,000 t       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　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1,000,000 t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　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(+1,500 t)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Photosensitive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20 %             40 % (SK-I and -III)                   ?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Coverage                                               20 % (SK-II)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Observation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1983   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 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1996    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       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? 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tarted  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Cost (Oku-Yen)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5                  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100                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500?</a:t>
            </a:r>
            <a:r>
              <a:rPr b="0" lang="ja-JP" sz="1800" spc="-1" strike="noStrike" baseline="30000">
                <a:solidFill>
                  <a:srgbClr val="ff0000"/>
                </a:solidFill>
                <a:latin typeface="Comic Sans MS"/>
              </a:rPr>
              <a:t>**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       </a:t>
            </a:r>
            <a:r>
              <a:rPr b="0" lang="ja-JP" sz="1800" spc="-1" strike="noStrike" baseline="30000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ja-JP" sz="1800" spc="-1" strike="noStrike" baseline="30000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1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Oku-Yen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1M$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      </a:t>
            </a:r>
            <a:r>
              <a:rPr b="0" lang="ja-JP" sz="1800" spc="-1" strike="noStrike" baseline="30000">
                <a:solidFill>
                  <a:srgbClr val="ff0000"/>
                </a:solidFill>
                <a:latin typeface="Comic Sans MS"/>
              </a:rPr>
              <a:t>**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Target cost; No realistic estimate yet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Comic Sans MS"/>
              </a:rPr>
              <a:t>                   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D33E6-498F-4C8F-A66D-004BEDD7FC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Construction Time Line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6840" y="1424160"/>
          <a:ext cx="8810640" cy="4895640"/>
        </p:xfrm>
        <a:graphic>
          <a:graphicData uri="http://schemas.openxmlformats.org/drawingml/2006/table">
            <a:tbl>
              <a:tblPr/>
              <a:tblGrid>
                <a:gridCol w="844560"/>
                <a:gridCol w="530280"/>
                <a:gridCol w="531720"/>
                <a:gridCol w="530280"/>
                <a:gridCol w="531720"/>
                <a:gridCol w="530280"/>
                <a:gridCol w="531720"/>
                <a:gridCol w="532080"/>
                <a:gridCol w="529920"/>
                <a:gridCol w="532080"/>
                <a:gridCol w="529920"/>
                <a:gridCol w="532080"/>
                <a:gridCol w="530280"/>
                <a:gridCol w="531720"/>
                <a:gridCol w="530280"/>
                <a:gridCol w="53172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0  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0   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9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042920" y="2492280"/>
            <a:ext cx="2737080" cy="289080"/>
          </a:xfrm>
          <a:prstGeom prst="rightArrow">
            <a:avLst>
              <a:gd name="adj1" fmla="val 50000"/>
              <a:gd name="adj2" fmla="val 23670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421000"/>
            <a:ext cx="111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2K-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2852640"/>
            <a:ext cx="576360" cy="1224000"/>
          </a:xfrm>
          <a:prstGeom prst="line">
            <a:avLst/>
          </a:prstGeom>
          <a:ln w="76320">
            <a:solidFill>
              <a:srgbClr val="0000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076640"/>
            <a:ext cx="5329080" cy="216000"/>
          </a:xfrm>
          <a:prstGeom prst="rightArrow">
            <a:avLst>
              <a:gd name="adj1" fmla="val 50000"/>
              <a:gd name="adj2" fmla="val 6167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56000" y="4292640"/>
            <a:ext cx="259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K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532720" y="4724280"/>
            <a:ext cx="611280" cy="505080"/>
          </a:xfrm>
          <a:prstGeom prst="rightArrow">
            <a:avLst>
              <a:gd name="adj1" fmla="val 50000"/>
              <a:gd name="adj2" fmla="val 302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5300640"/>
            <a:ext cx="2484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K and T2K-II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7ED0F-13B5-45F8-9260-CB2F6BCEEF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8964720" cy="544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2K long baseline neutrino oscillation experiment: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2nd phase, CP violation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If the 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Comic Sans MS"/>
              </a:rPr>
              <a:t>13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measurement in the 1st phase gives only an upper limit, the 2nd phase will enhance the reach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oton deca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0000ff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π</a:t>
            </a:r>
            <a:r>
              <a:rPr b="0" lang="en-US" sz="2000" spc="-1" strike="noStrike" baseline="30000">
                <a:solidFill>
                  <a:srgbClr val="0000ff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νK</a:t>
            </a:r>
            <a:r>
              <a:rPr b="0" lang="en-US" sz="2000" spc="-1" strike="noStrike" baseline="30000">
                <a:solidFill>
                  <a:srgbClr val="0000ff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and other mode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eutrino oscillation measurements with atmospheric neutrinos: 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Comic Sans MS"/>
              </a:rPr>
              <a:t>13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, sgn(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m</a:t>
            </a:r>
            <a:r>
              <a:rPr b="1" lang="en-US" sz="20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), sub-dominant osc., CP phase</a:t>
            </a:r>
            <a:r>
              <a:rPr b="0" lang="ja-JP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asurements of low-energy neutrino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upernova neutrino (</a:t>
            </a:r>
            <a:r>
              <a:rPr b="0" lang="ja-JP" sz="2000" spc="-1" strike="noStrike">
                <a:solidFill>
                  <a:srgbClr val="0000ff"/>
                </a:solidFill>
                <a:latin typeface="Comic Sans MS"/>
              </a:rPr>
              <a:t>～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x10</a:t>
            </a:r>
            <a:r>
              <a:rPr b="1" lang="en-US" sz="2000" spc="-1" strike="noStrike" baseline="30000">
                <a:solidFill>
                  <a:srgbClr val="0000ff"/>
                </a:solidFill>
                <a:latin typeface="Comic Sans MS"/>
              </a:rPr>
              <a:t>5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neutrinos for 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a SN at the center of the galaxy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elic supernova neutrino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olar neutrino measurement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80000"/>
              </a:lnSpc>
              <a:spcBef>
                <a:spcPts val="451"/>
              </a:spcBef>
              <a:buSzPct val="109786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Possible at the Hyper-K site (600-700 m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overburden) ? Under study.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hat can be done with Hyper-K ?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1187280" y="2997360"/>
            <a:ext cx="42498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Reach:</a:t>
            </a:r>
            <a:r>
              <a:rPr b="1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Comic Sans MS"/>
                <a:ea typeface="ＭＳ Ｐゴシック"/>
              </a:rPr>
              <a:t>p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ＭＳ Ｐゴシック"/>
              </a:rPr>
              <a:t>(e</a:t>
            </a:r>
            <a:r>
              <a:rPr b="1" lang="en-US" sz="2000" spc="-1" strike="noStrike" baseline="30000">
                <a:solidFill>
                  <a:srgbClr val="339933"/>
                </a:solidFill>
                <a:latin typeface="Comic Sans MS"/>
                <a:ea typeface="ＭＳ Ｐゴシック"/>
              </a:rPr>
              <a:t>+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9933"/>
                </a:solidFill>
                <a:latin typeface="Comic Sans MS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ＭＳ Ｐゴシック"/>
              </a:rPr>
              <a:t>)/B </a:t>
            </a:r>
            <a:r>
              <a:rPr b="0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ＭＳ Ｐゴシック"/>
              </a:rPr>
              <a:t> 10</a:t>
            </a:r>
            <a:r>
              <a:rPr b="1" lang="en-US" sz="2000" spc="-1" strike="noStrike" baseline="30000">
                <a:solidFill>
                  <a:srgbClr val="339933"/>
                </a:solidFill>
                <a:latin typeface="Comic Sans MS"/>
                <a:ea typeface="ＭＳ Ｐゴシック"/>
              </a:rPr>
              <a:t>35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ＭＳ Ｐゴシック"/>
              </a:rPr>
              <a:t> yr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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Comic Sans MS"/>
                <a:ea typeface="HGPｺﾞｼｯｸE"/>
              </a:rPr>
              <a:t>p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(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K</a:t>
            </a:r>
            <a:r>
              <a:rPr b="1" lang="en-US" sz="2000" spc="-1" strike="noStrike" baseline="30000">
                <a:solidFill>
                  <a:srgbClr val="339933"/>
                </a:solidFill>
                <a:latin typeface="Comic Sans MS"/>
                <a:ea typeface="HGPｺﾞｼｯｸE"/>
              </a:rPr>
              <a:t>+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)/B </a:t>
            </a:r>
            <a:r>
              <a:rPr b="0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 10</a:t>
            </a:r>
            <a:r>
              <a:rPr b="1" lang="en-US" sz="2000" spc="-1" strike="noStrike" baseline="30000">
                <a:solidFill>
                  <a:srgbClr val="339933"/>
                </a:solidFill>
                <a:latin typeface="Comic Sans MS"/>
                <a:ea typeface="HGPｺﾞｼｯｸE"/>
              </a:rPr>
              <a:t>34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 yr</a:t>
            </a:r>
            <a:r>
              <a:rPr b="0" lang="en-US" sz="1800" spc="-1" strike="noStrike">
                <a:solidFill>
                  <a:srgbClr val="339933"/>
                </a:solidFill>
                <a:latin typeface="HGPｺﾞｼｯｸE"/>
                <a:ea typeface="HGPｺﾞｼｯｸE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71640" y="2637000"/>
            <a:ext cx="1476360" cy="360360"/>
          </a:xfrm>
          <a:prstGeom prst="wedgeRectCallout">
            <a:avLst>
              <a:gd name="adj1" fmla="val -80861"/>
              <a:gd name="adj2" fmla="val 240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ioza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67640" y="1484280"/>
            <a:ext cx="1476360" cy="432000"/>
          </a:xfrm>
          <a:prstGeom prst="wedgeRectCallout">
            <a:avLst>
              <a:gd name="adj1" fmla="val -66453"/>
              <a:gd name="adj2" fmla="val -22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obayas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207280" y="3860640"/>
            <a:ext cx="936720" cy="432000"/>
          </a:xfrm>
          <a:prstGeom prst="wedgeRectCallout">
            <a:avLst>
              <a:gd name="adj1" fmla="val -83050"/>
              <a:gd name="adj2" fmla="val -3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aj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940360" y="4653000"/>
            <a:ext cx="3203640" cy="1728720"/>
            <a:chOff x="5940360" y="4653000"/>
            <a:chExt cx="3203640" cy="1728720"/>
          </a:xfrm>
        </p:grpSpPr>
        <p:sp>
          <p:nvSpPr>
            <p:cNvPr id="93" name=""/>
            <p:cNvSpPr/>
            <p:nvPr/>
          </p:nvSpPr>
          <p:spPr>
            <a:xfrm>
              <a:off x="5940360" y="4653000"/>
              <a:ext cx="503280" cy="1728720"/>
            </a:xfrm>
            <a:custGeom>
              <a:avLst/>
              <a:gdLst>
                <a:gd name="textAreaLeft" fmla="*/ 0 w 503280"/>
                <a:gd name="textAreaRight" fmla="*/ 181800 w 503280"/>
                <a:gd name="textAreaTop" fmla="*/ 45000 h 1728720"/>
                <a:gd name="textAreaBottom" fmla="*/ 16837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43640" y="5084640"/>
              <a:ext cx="2700360" cy="865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akahata’s study fo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ton water Cherenko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tectors in gerer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-28800" y="1181160"/>
            <a:ext cx="9172800" cy="6087240"/>
            <a:chOff x="-28800" y="1181160"/>
            <a:chExt cx="9172800" cy="6087240"/>
          </a:xfrm>
        </p:grpSpPr>
        <p:pic>
          <p:nvPicPr>
            <p:cNvPr id="96" name="" descr=""/>
            <p:cNvPicPr/>
            <p:nvPr/>
          </p:nvPicPr>
          <p:blipFill>
            <a:blip r:embed="rId14"/>
            <a:stretch/>
          </p:blipFill>
          <p:spPr>
            <a:xfrm>
              <a:off x="2060640" y="1181160"/>
              <a:ext cx="5095800" cy="38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882160" y="1360440"/>
              <a:ext cx="3658680" cy="648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r>
                <a:rPr b="1" lang="en-US" sz="3200" spc="-1" strike="noStrike" baseline="-25000">
                  <a:solidFill>
                    <a:srgbClr val="ff3300"/>
                  </a:solidFill>
                  <a:latin typeface="Symbol"/>
                  <a:ea typeface="Symbol"/>
                </a:rPr>
                <a:t>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3300"/>
                  </a:solidFill>
                  <a:latin typeface="Comic Sans MS"/>
                </a:rPr>
                <a:t>beam of ~1Ge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62640" y="2486160"/>
              <a:ext cx="152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Kamio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19640" y="2995560"/>
              <a:ext cx="164880" cy="18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51360" y="3033720"/>
              <a:ext cx="165240" cy="18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42480" y="3235320"/>
              <a:ext cx="1175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J-PAR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8360" y="5635800"/>
              <a:ext cx="3759120" cy="163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n-US" sz="3600" spc="-1" strike="noStrike" baseline="-6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→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n-US" sz="3600" spc="-1" strike="noStrike" baseline="-6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6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600" spc="-1" strike="noStrike" baseline="-6000">
                  <a:solidFill>
                    <a:srgbClr val="000000"/>
                  </a:solidFill>
                  <a:latin typeface="Comic Sans MS"/>
                </a:rPr>
                <a:t>disappearanc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r>
                <a:rPr b="1" lang="en-US" sz="3600" spc="-1" strike="noStrike" baseline="-25000">
                  <a:solidFill>
                    <a:srgbClr val="ff33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→ </a:t>
              </a: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r>
                <a:rPr b="1" lang="en-US" sz="3600" spc="-1" strike="noStrike" baseline="-6000">
                  <a:solidFill>
                    <a:srgbClr val="ff3300"/>
                  </a:solidFill>
                  <a:latin typeface="Times New Roman"/>
                </a:rPr>
                <a:t>e</a:t>
              </a:r>
              <a:r>
                <a:rPr b="1" lang="en-US" sz="3600" spc="-1" strike="noStrike" baseline="-6000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Comic Sans MS"/>
                </a:rPr>
                <a:t>appear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C measur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1280" y="4111560"/>
              <a:ext cx="2057400" cy="119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cc"/>
                  </a:solidFill>
                  <a:latin typeface="Comic Sans MS"/>
                </a:rPr>
                <a:t>~</a:t>
              </a:r>
              <a:r>
                <a:rPr b="1" lang="en-US" sz="2400" spc="-1" strike="noStrike">
                  <a:solidFill>
                    <a:srgbClr val="0000cc"/>
                  </a:solidFill>
                  <a:latin typeface="Comic Sans MS"/>
                </a:rPr>
                <a:t>Mt “Hyper Kamiokande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79360" y="3502080"/>
              <a:ext cx="762120" cy="609480"/>
            </a:xfrm>
            <a:prstGeom prst="downArrow">
              <a:avLst>
                <a:gd name="adj1" fmla="val 42083"/>
                <a:gd name="adj2" fmla="val 55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51640" y="3645000"/>
              <a:ext cx="3492360" cy="459720"/>
            </a:xfrm>
            <a:prstGeom prst="rect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ffff"/>
                  </a:solidFill>
                  <a:latin typeface="Comic Sans MS"/>
                  <a:ea typeface="ＭＳ Ｐ明朝"/>
                </a:rPr>
                <a:t>0.75</a:t>
              </a:r>
              <a:r>
                <a:rPr b="1" lang="ja-JP" sz="2400" spc="-1" strike="noStrike">
                  <a:solidFill>
                    <a:srgbClr val="00ff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00ffff"/>
                  </a:solidFill>
                  <a:latin typeface="Comic Sans MS"/>
                </a:rPr>
                <a:t>MW 50 GeV 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04000" y="4149720"/>
              <a:ext cx="884160" cy="439920"/>
            </a:xfrm>
            <a:prstGeom prst="downArrow">
              <a:avLst>
                <a:gd name="adj1" fmla="val 42083"/>
                <a:gd name="adj2" fmla="val 55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40360" y="4581360"/>
              <a:ext cx="28767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MW 50 GeV 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36360" y="5945040"/>
              <a:ext cx="241920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CP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proton dec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9280" y="5259240"/>
              <a:ext cx="162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 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98920" y="556416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d 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-28800" y="2492280"/>
              <a:ext cx="2908800" cy="825480"/>
            </a:xfrm>
            <a:prstGeom prst="rect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Comic Sans MS"/>
                </a:rPr>
                <a:t>Super-K: 50 k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Comic Sans MS"/>
                </a:rPr>
                <a:t>Water Cherenkov</a:t>
              </a:r>
              <a:r>
                <a:rPr b="1" lang="en-US" sz="24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093B7-9E0D-4584-8F4E-FFECF4CF1C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993080" cy="65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tatus of Hyper-K Planning and R&amp;D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7099200" cy="621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te studies: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Tochibora mine has been selected.  Overburden 600 – 700 m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vity design and excavation studies: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win cavities preferred; FEA in progress; Geological survey and boring core studies made with existing data; </a:t>
            </a: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in situ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measurement of initial rock stress yet to be done; direct exploration boring and geo-survey tunneling at the candidate site needed, etc.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ater tank and PMT support: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Conceptual design started, but progress is slow.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pherical HPD: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5-inch prototype tested, 13-inch prototype test in progress.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alistic cost estimation: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Yet to be done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udy trade-off between physics capabilities and photocoverage (i.e., cost):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Partly done for p</a:t>
            </a:r>
            <a:r>
              <a:rPr b="0" lang="ja-JP" sz="2000" spc="-1" strike="noStrike">
                <a:solidFill>
                  <a:srgbClr val="0000cc"/>
                </a:solidFill>
                <a:latin typeface="Comic Sans MS"/>
              </a:rPr>
              <a:t>→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e</a:t>
            </a:r>
            <a:r>
              <a:rPr b="1" lang="en-US" sz="2000" spc="-1" strike="noStrike" baseline="30000">
                <a:solidFill>
                  <a:srgbClr val="0000cc"/>
                </a:solidFill>
                <a:latin typeface="Comic Sans MS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, but many more studies needed.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732720" y="1413000"/>
            <a:ext cx="2232000" cy="2303280"/>
            <a:chOff x="6732720" y="1413000"/>
            <a:chExt cx="2232000" cy="2303280"/>
          </a:xfrm>
        </p:grpSpPr>
        <p:sp>
          <p:nvSpPr>
            <p:cNvPr id="115" name=""/>
            <p:cNvSpPr/>
            <p:nvPr/>
          </p:nvSpPr>
          <p:spPr>
            <a:xfrm>
              <a:off x="6732720" y="1413000"/>
              <a:ext cx="360360" cy="230328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59760 h 2303280"/>
                <a:gd name="textAreaBottom" fmla="*/ 224352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714"/>
                  </a:lnTo>
                  <a:cubicBezTo>
                    <a:pt x="10800" y="9614"/>
                    <a:pt x="16200" y="10514"/>
                    <a:pt x="21600" y="10514"/>
                  </a:cubicBezTo>
                  <a:cubicBezTo>
                    <a:pt x="16200" y="10514"/>
                    <a:pt x="10800" y="11414"/>
                    <a:pt x="10800" y="12314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4360" y="2276640"/>
              <a:ext cx="1800360" cy="502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akagaw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7308720" y="4653000"/>
            <a:ext cx="1513080" cy="503280"/>
          </a:xfrm>
          <a:prstGeom prst="wedgeRectCallout">
            <a:avLst>
              <a:gd name="adj1" fmla="val -81268"/>
              <a:gd name="adj2" fmla="val -181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ih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5734080"/>
            <a:ext cx="1513080" cy="503280"/>
          </a:xfrm>
          <a:prstGeom prst="wedgeRectCallout">
            <a:avLst>
              <a:gd name="adj1" fmla="val -76652"/>
              <a:gd name="adj2" fmla="val 3107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ioza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-40680" y="0"/>
            <a:ext cx="9183960" cy="6858000"/>
            <a:chOff x="-40680" y="0"/>
            <a:chExt cx="9183960" cy="6858000"/>
          </a:xfrm>
        </p:grpSpPr>
        <p:sp>
          <p:nvSpPr>
            <p:cNvPr id="120" name=""/>
            <p:cNvSpPr/>
            <p:nvPr/>
          </p:nvSpPr>
          <p:spPr>
            <a:xfrm>
              <a:off x="0" y="0"/>
              <a:ext cx="443268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-40680" y="0"/>
              <a:ext cx="9183960" cy="6858000"/>
              <a:chOff x="-40680" y="0"/>
              <a:chExt cx="9183960" cy="6858000"/>
            </a:xfrm>
          </p:grpSpPr>
          <p:pic>
            <p:nvPicPr>
              <p:cNvPr id="12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47000" y="0"/>
                <a:ext cx="479628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-40680" y="237960"/>
                <a:ext cx="3506040" cy="1191240"/>
              </a:xfrm>
              <a:prstGeom prst="rect">
                <a:avLst/>
              </a:prstGeom>
              <a:noFill/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cc"/>
                    </a:solidFill>
                    <a:latin typeface="Comic Sans MS"/>
                  </a:rPr>
                  <a:t>Kamioka Min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cc"/>
                    </a:solidFill>
                    <a:latin typeface="Comic Sans MS"/>
                  </a:rPr>
                  <a:t>Geological Map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161640" y="1905120"/>
                <a:ext cx="5699880" cy="947160"/>
                <a:chOff x="161640" y="1905120"/>
                <a:chExt cx="5699880" cy="9471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61640" y="1905120"/>
                  <a:ext cx="26056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MOZUMI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Min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V="1">
                  <a:off x="2360160" y="1905120"/>
                  <a:ext cx="350136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headEnd len="med" type="oval" w="med"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330120" y="3733920"/>
                <a:ext cx="5834880" cy="1523880"/>
                <a:chOff x="330120" y="3733920"/>
                <a:chExt cx="5834880" cy="15238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30120" y="3733920"/>
                  <a:ext cx="29552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TOCHIBORA 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Min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133800" y="4495680"/>
                  <a:ext cx="3031200" cy="7621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headEnd len="med" type="oval" w="med"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EDDF3-F639-4F93-BDE1-272FAC2A02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4T08:58:05Z</dcterms:created>
  <dc:creator>中村健蔵</dc:creator>
  <dc:description/>
  <dc:language>en-US</dc:language>
  <cp:lastModifiedBy>kenzo</cp:lastModifiedBy>
  <cp:lastPrinted>2002-10-09T11:12:41Z</cp:lastPrinted>
  <dcterms:modified xsi:type="dcterms:W3CDTF">2005-04-07T12:59:02Z</dcterms:modified>
  <cp:revision>114</cp:revision>
  <dc:subject/>
  <dc:title>ｽﾗｲﾄﾞ ﾀｲﾄﾙなし</dc:title>
</cp:coreProperties>
</file>